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C36-21CF-4B51-826B-3ED15D58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B34-410A-4446-BCA2-B1FCD0B4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FE1-FED9-4819-ABA4-FCF898A7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E01-2EEA-49A9-81D7-81D4B3BB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104-A2D9-4CB8-82AA-EB666C6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D1F-9EB2-4689-9F23-5B5A0219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0BC-1470-49AD-9112-1D58B787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87B-8D6D-455E-9A69-DD7C512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461-AF01-4E15-BB8C-52C65EE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13-0826-4074-BAA1-D78E6E8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4A6-B929-4C3D-9276-2B75026E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30B-2769-4C44-9660-493CFE82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E42-6CA9-45EB-9E0D-A58DD5F971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IB – 06/11/2017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b0f0"/>
                </a:solidFill>
                <a:latin typeface="Arial"/>
              </a:rPr>
              <a:t>PPI – Programação Pactuada Integrada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manejamentos de Teto Físicos e Financeiros da PPI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4920" y="0"/>
          <a:ext cx="9072720" cy="647712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863280"/>
                <a:gridCol w="936720"/>
                <a:gridCol w="1368360"/>
                <a:gridCol w="1440000"/>
                <a:gridCol w="1079640"/>
              </a:tblGrid>
              <a:tr h="85284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4792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7XXXX - AVALIAÇÕES FONOAUDIOLÓG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2 - CIRURGIÃO DEN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4 - FARMACÊU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5 - ENFERM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87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6 - FISOTERAPEUTA/TERAPEUTA OCUPACIONAL/ORTOP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920" y="0"/>
          <a:ext cx="9072720" cy="6195960"/>
        </p:xfrm>
        <a:graphic>
          <a:graphicData uri="http://schemas.openxmlformats.org/drawingml/2006/table">
            <a:tbl>
              <a:tblPr/>
              <a:tblGrid>
                <a:gridCol w="1079640"/>
                <a:gridCol w="2449440"/>
                <a:gridCol w="790560"/>
                <a:gridCol w="865080"/>
                <a:gridCol w="1368360"/>
                <a:gridCol w="1440000"/>
                <a:gridCol w="1079640"/>
              </a:tblGrid>
              <a:tr h="7650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9692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8 - FONOAUDIÓ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1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0,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36 - TERAPIA EM GRUPO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36 - TERAPIA EM GRUPO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-36360" y="0"/>
          <a:ext cx="9144000" cy="6716880"/>
        </p:xfrm>
        <a:graphic>
          <a:graphicData uri="http://schemas.openxmlformats.org/drawingml/2006/table">
            <a:tbl>
              <a:tblPr/>
              <a:tblGrid>
                <a:gridCol w="1079280"/>
                <a:gridCol w="2737080"/>
                <a:gridCol w="792000"/>
                <a:gridCol w="863640"/>
                <a:gridCol w="1440000"/>
                <a:gridCol w="1296720"/>
                <a:gridCol w="935280"/>
              </a:tblGrid>
              <a:tr h="3333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8160">
                <a:tc rowSpan="9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44 - TERAPIA INDIVIDUAL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44 - TERAPIA INDIVIDUAL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50000 - Atenção domic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7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29 - ATENDIMENTO DE URGENCIA C/ OBSERVACAO ATE 24 HORAS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6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61 - ATENDIMENTO DE URGENCIA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61 - ATENDIMENTO DE URGENCIA EM ATENCAO ESPECIALIZADA - 2232 - CIRURGIÃO DEN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100012 - ADMINISTRACAO DE MEDICAMENTOS  NA ATENCAO ESPECIALIZADA POR (PACIEN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50000 - Assistência fisioterapêutica nas disfunções músculo esquelé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80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91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 (PALMA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36360" y="260280"/>
          <a:ext cx="9145440" cy="4927680"/>
        </p:xfrm>
        <a:graphic>
          <a:graphicData uri="http://schemas.openxmlformats.org/drawingml/2006/table">
            <a:tbl>
              <a:tblPr/>
              <a:tblGrid>
                <a:gridCol w="1120680"/>
                <a:gridCol w="2530440"/>
                <a:gridCol w="650880"/>
                <a:gridCol w="939600"/>
                <a:gridCol w="1382760"/>
                <a:gridCol w="1436760"/>
                <a:gridCol w="1084320"/>
              </a:tblGrid>
              <a:tr h="4266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1412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60029 - ATENDIMENTO DE URGENCIA C/ OBSERVACAO ATE 24 HORAS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0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60061 - ATENDIMENTO DE URGENCIA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2050000 - Assistência fisioterapêutica nas disfunções músculo esquelé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59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/Municipal (PARAIS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0"/>
          <a:ext cx="9072720" cy="597708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647640"/>
                <a:gridCol w="936720"/>
                <a:gridCol w="1440000"/>
                <a:gridCol w="1511280"/>
                <a:gridCol w="1224000"/>
              </a:tblGrid>
              <a:tr h="2134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rowSpan="7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10000 - Exames radiológicos da cabeça e pescoç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2XXXX - RADIOLOGIA COLUNA VERTEB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3XXXX - RADIOLOGIA TORAX MEDIAST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8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40000 - Exames radiológicos da cintura escapular e dos membros sup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5XXXX - RADIOLÓGICO ABDOMEN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60000 - Exames radiológicos da cintura pélvica e dos m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046 – ULTRA -SONOGRAFIA DE ABDOMEN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920" y="0"/>
          <a:ext cx="9074160" cy="5133960"/>
        </p:xfrm>
        <a:graphic>
          <a:graphicData uri="http://schemas.openxmlformats.org/drawingml/2006/table">
            <a:tbl>
              <a:tblPr/>
              <a:tblGrid>
                <a:gridCol w="1152360"/>
                <a:gridCol w="2448000"/>
                <a:gridCol w="649440"/>
                <a:gridCol w="934920"/>
                <a:gridCol w="1368360"/>
                <a:gridCol w="1441440"/>
                <a:gridCol w="1079640"/>
              </a:tblGrid>
              <a:tr h="2134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24 - Médico ped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,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4920" y="5157720"/>
          <a:ext cx="9072720" cy="576360"/>
        </p:xfrm>
        <a:graphic>
          <a:graphicData uri="http://schemas.openxmlformats.org/drawingml/2006/table">
            <a:tbl>
              <a:tblPr/>
              <a:tblGrid>
                <a:gridCol w="1152360"/>
                <a:gridCol w="2448000"/>
                <a:gridCol w="647640"/>
                <a:gridCol w="936720"/>
                <a:gridCol w="3888000"/>
              </a:tblGrid>
              <a:tr h="5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8000" y="0"/>
          <a:ext cx="8928000" cy="3506760"/>
        </p:xfrm>
        <a:graphic>
          <a:graphicData uri="http://schemas.openxmlformats.org/drawingml/2006/table">
            <a:tbl>
              <a:tblPr/>
              <a:tblGrid>
                <a:gridCol w="1295280"/>
                <a:gridCol w="1873440"/>
                <a:gridCol w="647640"/>
                <a:gridCol w="934920"/>
                <a:gridCol w="1728720"/>
                <a:gridCol w="1440000"/>
                <a:gridCol w="100800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60000 - Exames radiológicos da cintura pélvica e dos m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INÓPOLIS         ( 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7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Estadual (Augustinópoli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-162000"/>
          <a:ext cx="9001080" cy="5970600"/>
        </p:xfrm>
        <a:graphic>
          <a:graphicData uri="http://schemas.openxmlformats.org/drawingml/2006/table">
            <a:tbl>
              <a:tblPr/>
              <a:tblGrid>
                <a:gridCol w="1128600"/>
                <a:gridCol w="2183040"/>
                <a:gridCol w="504720"/>
                <a:gridCol w="792000"/>
                <a:gridCol w="1656000"/>
                <a:gridCol w="1428480"/>
                <a:gridCol w="130824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1010028 - ATIVIDADE EDUCATIVA / ORIENTAÇÃO EM GRUPO NA ATENÇÃO ESPECI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5 - ENFERM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1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7 - NUTRICION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2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8 - FONOAUDIÓ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8000" y="189000"/>
          <a:ext cx="9001080" cy="5751360"/>
        </p:xfrm>
        <a:graphic>
          <a:graphicData uri="http://schemas.openxmlformats.org/drawingml/2006/table">
            <a:tbl>
              <a:tblPr/>
              <a:tblGrid>
                <a:gridCol w="1128600"/>
                <a:gridCol w="2259000"/>
                <a:gridCol w="776520"/>
                <a:gridCol w="776160"/>
                <a:gridCol w="1623960"/>
                <a:gridCol w="1411200"/>
                <a:gridCol w="102564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10000 - Exames radiológicos da cabeça e pescoç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5,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2XXXX - RADIOLOGIA COLUNA VERTEB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5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000" y="-162000"/>
          <a:ext cx="8856720" cy="6070680"/>
        </p:xfrm>
        <a:graphic>
          <a:graphicData uri="http://schemas.openxmlformats.org/drawingml/2006/table">
            <a:tbl>
              <a:tblPr/>
              <a:tblGrid>
                <a:gridCol w="1128600"/>
                <a:gridCol w="2040120"/>
                <a:gridCol w="863640"/>
                <a:gridCol w="863280"/>
                <a:gridCol w="1224000"/>
                <a:gridCol w="1643040"/>
                <a:gridCol w="109404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403XXXX - RADIOLOGIA TORAX MEDIAST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00 - Ultra-sonografias dos demais siste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3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46 - ULTRA-SONOGRAFIA DE ABDOMEN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7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97 - ULTRA-SONOGRAFIA MAMARIA BILAT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4920" y="0"/>
          <a:ext cx="9072720" cy="5484960"/>
        </p:xfrm>
        <a:graphic>
          <a:graphicData uri="http://schemas.openxmlformats.org/drawingml/2006/table">
            <a:tbl>
              <a:tblPr/>
              <a:tblGrid>
                <a:gridCol w="1079640"/>
                <a:gridCol w="2305080"/>
                <a:gridCol w="792000"/>
                <a:gridCol w="1079640"/>
                <a:gridCol w="1296720"/>
                <a:gridCol w="1440000"/>
                <a:gridCol w="107964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B ORDINÁRIA 6  DE DEZEMBRO DE  2017 - PARECER TÉCNICO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ÇÕES DE REMANEJAMENTO DE TETO FÍSICO E FINANCEI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AGUIARNÓPOLIS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iar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000 - Ultra-sonografias dos demais siste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4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345960"/>
          <a:ext cx="8856720" cy="5315040"/>
        </p:xfrm>
        <a:graphic>
          <a:graphicData uri="http://schemas.openxmlformats.org/drawingml/2006/table">
            <a:tbl>
              <a:tblPr/>
              <a:tblGrid>
                <a:gridCol w="1128600"/>
                <a:gridCol w="1905120"/>
                <a:gridCol w="917640"/>
                <a:gridCol w="776160"/>
                <a:gridCol w="1341360"/>
                <a:gridCol w="1563840"/>
                <a:gridCol w="122400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20036 - ELETROCARDI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9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33 - 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51 - Médico anestesi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8000" y="-122400"/>
          <a:ext cx="8856720" cy="6070680"/>
        </p:xfrm>
        <a:graphic>
          <a:graphicData uri="http://schemas.openxmlformats.org/drawingml/2006/table">
            <a:tbl>
              <a:tblPr/>
              <a:tblGrid>
                <a:gridCol w="1128600"/>
                <a:gridCol w="2327400"/>
                <a:gridCol w="647640"/>
                <a:gridCol w="936720"/>
                <a:gridCol w="1224000"/>
                <a:gridCol w="1439640"/>
                <a:gridCol w="115272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50000 - Assistência fisioterapêutica nas disfunções musculo esquele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8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8000" y="260280"/>
          <a:ext cx="8785080" cy="5113440"/>
        </p:xfrm>
        <a:graphic>
          <a:graphicData uri="http://schemas.openxmlformats.org/drawingml/2006/table">
            <a:tbl>
              <a:tblPr/>
              <a:tblGrid>
                <a:gridCol w="1119240"/>
                <a:gridCol w="2241360"/>
                <a:gridCol w="770040"/>
                <a:gridCol w="770040"/>
                <a:gridCol w="1260360"/>
                <a:gridCol w="1471680"/>
                <a:gridCol w="1152360"/>
              </a:tblGrid>
              <a:tr h="63972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5040000 - Procedimentos cirúrgicos g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7010000 - Anestes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24 - Médico ped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402XXXX - Cirurgia Oral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14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 (ARAGUAÍN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8000" y="0"/>
          <a:ext cx="8928000" cy="4802040"/>
        </p:xfrm>
        <a:graphic>
          <a:graphicData uri="http://schemas.openxmlformats.org/drawingml/2006/table">
            <a:tbl>
              <a:tblPr/>
              <a:tblGrid>
                <a:gridCol w="1295280"/>
                <a:gridCol w="1873440"/>
                <a:gridCol w="647640"/>
                <a:gridCol w="1224000"/>
                <a:gridCol w="1439640"/>
                <a:gridCol w="1440000"/>
                <a:gridCol w="100800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 - Modalidade: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LÍNICA/CLÍNICA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23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SBTETRICIA CIRÚRG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4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RETRICOS/OSBTRECIA CLÍ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LINICA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1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30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s valores dos tetos fisicos/financeiros correspondem ao  valor que estava na Gestão Estadual /Municipal(ARAGUAÍN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-4680"/>
          <a:ext cx="9144000" cy="6651720"/>
        </p:xfrm>
        <a:graphic>
          <a:graphicData uri="http://schemas.openxmlformats.org/drawingml/2006/table">
            <a:tbl>
              <a:tblPr/>
              <a:tblGrid>
                <a:gridCol w="826920"/>
                <a:gridCol w="1513080"/>
                <a:gridCol w="792000"/>
                <a:gridCol w="648000"/>
                <a:gridCol w="720720"/>
                <a:gridCol w="1366560"/>
                <a:gridCol w="576360"/>
                <a:gridCol w="720720"/>
                <a:gridCol w="1008000"/>
                <a:gridCol w="971640"/>
              </a:tblGrid>
              <a:tr h="27756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PALMEIRÓPOLIS  - Modalidade: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s - Retirar (Leito/Especial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(Retiran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.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row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LI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6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60,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BSTETRICIA CIRÚRG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10,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87,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ÚRGICOS/GASTROENTER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15,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76,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ÚRGICOS/CIRURGI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6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0,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OS/PNEUM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17,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07,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IRURGICA/CIRURGI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15,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3,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ARDI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86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50,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BSTETRÍCIA CLIN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37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0,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75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75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.59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.402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-36360" y="260280"/>
          <a:ext cx="9216720" cy="602640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08000"/>
                <a:gridCol w="792360"/>
                <a:gridCol w="792000"/>
                <a:gridCol w="1368360"/>
                <a:gridCol w="648000"/>
                <a:gridCol w="647640"/>
                <a:gridCol w="934920"/>
                <a:gridCol w="865080"/>
              </a:tblGrid>
              <a:tr h="42660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PARAIS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AVANÇ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DIFERENCI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,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,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PERFIL TORC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86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20065 - EXAME ANATOMOPATOLOGICO DE MAMA - BIOP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6,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5XXXX - RADIOLÓGICO ABDOMEN AVANÇ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,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9040000 - Aparelho respira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6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4920" y="0"/>
          <a:ext cx="9109080" cy="6297480"/>
        </p:xfrm>
        <a:graphic>
          <a:graphicData uri="http://schemas.openxmlformats.org/drawingml/2006/table">
            <a:tbl>
              <a:tblPr/>
              <a:tblGrid>
                <a:gridCol w="720720"/>
                <a:gridCol w="1440000"/>
                <a:gridCol w="936360"/>
                <a:gridCol w="720720"/>
                <a:gridCol w="719280"/>
                <a:gridCol w="1440000"/>
                <a:gridCol w="576000"/>
                <a:gridCol w="792360"/>
                <a:gridCol w="865080"/>
                <a:gridCol w="898560"/>
              </a:tblGrid>
              <a:tr h="40464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.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5XXXX - ELETROENCEFALOGR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1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9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6XXXX - DIAGNÓSTICO EM OFTALMOLOGIA INTERMEDIÁ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5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5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09 - Médico nefr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15 - Médico angi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35 - Médico dermat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5 - Médico otorrinolaring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9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99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96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s valores dos tetos fisicos/financeiros correspondem ao  valor que estava na GM(Palmas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RIGA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lefone 3218 17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-mail: ppiassistencialto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36360" y="549360"/>
          <a:ext cx="9145440" cy="468792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08000"/>
                <a:gridCol w="648000"/>
                <a:gridCol w="720720"/>
                <a:gridCol w="1152360"/>
                <a:gridCol w="647640"/>
                <a:gridCol w="647640"/>
                <a:gridCol w="1440000"/>
                <a:gridCol w="720720"/>
              </a:tblGrid>
              <a:tr h="28728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AGUIARNÓPOLIS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iar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920" y="1454040"/>
          <a:ext cx="9072720" cy="332604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936360"/>
                <a:gridCol w="935280"/>
                <a:gridCol w="1296720"/>
                <a:gridCol w="1440000"/>
                <a:gridCol w="1079640"/>
              </a:tblGrid>
              <a:tr h="42732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ITACAJÁ  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8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CAJ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 - EXAME CITOPATOLOGICO CERVICO-VAGINAL/MICROFL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CAJÁ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 (ITACAJÁ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9072720" cy="6093000"/>
        </p:xfrm>
        <a:graphic>
          <a:graphicData uri="http://schemas.openxmlformats.org/drawingml/2006/table">
            <a:tbl>
              <a:tblPr/>
              <a:tblGrid>
                <a:gridCol w="1368360"/>
                <a:gridCol w="1513080"/>
                <a:gridCol w="863640"/>
                <a:gridCol w="863280"/>
                <a:gridCol w="187344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3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4XXXX - COPR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3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,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83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( LAGOA DO TOCANTIN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4920" y="0"/>
          <a:ext cx="9001080" cy="6280200"/>
        </p:xfrm>
        <a:graphic>
          <a:graphicData uri="http://schemas.openxmlformats.org/drawingml/2006/table">
            <a:tbl>
              <a:tblPr/>
              <a:tblGrid>
                <a:gridCol w="1081080"/>
                <a:gridCol w="2016000"/>
                <a:gridCol w="792360"/>
                <a:gridCol w="1008000"/>
                <a:gridCol w="1079640"/>
                <a:gridCol w="1728720"/>
                <a:gridCol w="129528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 rowSpan="9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9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CITOMETRIA DE FLU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DIFERENCI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0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920" y="0"/>
          <a:ext cx="9072720" cy="595620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863280"/>
                <a:gridCol w="1008360"/>
                <a:gridCol w="1081080"/>
                <a:gridCol w="1439640"/>
                <a:gridCol w="129564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 rowSpan="8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7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PERFIL TORCH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61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4XXXX - COPR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2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0276 - DOSAGEM DE PARATOR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XXXX - HORMONAIS AVANÇ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920" y="0"/>
          <a:ext cx="9072720" cy="5823000"/>
        </p:xfrm>
        <a:graphic>
          <a:graphicData uri="http://schemas.openxmlformats.org/drawingml/2006/table">
            <a:tbl>
              <a:tblPr/>
              <a:tblGrid>
                <a:gridCol w="1224000"/>
                <a:gridCol w="2233440"/>
                <a:gridCol w="863640"/>
                <a:gridCol w="1008000"/>
                <a:gridCol w="115272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 rowSpan="7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XXXX - HORMONAIS INTERMEDI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7XXXX - MONITORIZAÇÃO TERAPEU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7XXXX - TOXIC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9XXXX - LIQU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920" y="0"/>
          <a:ext cx="9072720" cy="5375160"/>
        </p:xfrm>
        <a:graphic>
          <a:graphicData uri="http://schemas.openxmlformats.org/drawingml/2006/table">
            <a:tbl>
              <a:tblPr/>
              <a:tblGrid>
                <a:gridCol w="1368360"/>
                <a:gridCol w="1800360"/>
                <a:gridCol w="720720"/>
                <a:gridCol w="1150920"/>
                <a:gridCol w="144144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00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12XXXX - IMUNOHEMATOLÓGICOS INTERMEDI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12XXXX - IMUNOHEMATOLÓGICOS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00 - Exames anatomopatoló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088,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65 - EXAME ANATOMOPATOLOGICO DE MAMA - BIOP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81 - EXAME ANATOMO-PATOLOGICO DO COLO UTERINO - BIOP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38,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Os valores dos tetos físicos/financeiros correspondem ao  valor que estava na Gestão Municipal( Palma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0:54Z</dcterms:created>
  <dc:creator>branti</dc:creator>
  <dc:description/>
  <dc:language>en-US</dc:language>
  <cp:lastModifiedBy>Admin</cp:lastModifiedBy>
  <dcterms:modified xsi:type="dcterms:W3CDTF">2017-12-06T12:22:43Z</dcterms:modified>
  <cp:revision>153</cp:revision>
  <dc:subject/>
  <dc:title>GOVERNO DO ESTADO DO TOCANTINS SECRETARIA DA SAÚDE SUPERINTENDENCIA DE ATENÇÃO E PROMOÇÃO À SAÚDE DIRETORIA DE CONTROLE, REGULAÇÃO, AVALIAÇÃO E AUDITORIA COORDENAÇÃO DE CONTROLE E SISTEMAS DE INFORMAÇÃO</dc:title>
</cp:coreProperties>
</file>